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201-0157-44C8-BB9E-0D2C8C07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B27-0A99-4D3C-B719-23E4FC1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403-DEF8-4FC7-B63D-3B0C5D7E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C9B-08B7-48F1-AC72-7E4F1D23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637C-247C-4CC2-BB46-00236721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FC9B-42F6-42C6-A588-F7FAE65A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FB0-DA5C-41F2-A9F3-996A25C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9591-81C3-4AB2-9369-1812F72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2BEE-1CC9-4BA2-B6B9-9A2315BC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C843-0E8E-4591-9429-32E61291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B590-27A4-408A-B8E7-D877185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177-1C15-4484-9231-BF0DBF87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58D5-2B1E-4435-B31B-3F32FC8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D29F-7908-4A96-8036-02CDDF95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6814-D310-4654-B524-0A0D7D48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C8D-FE92-441C-9543-3113852A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A835-85B1-4121-823F-E1F62D3E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9BA-BC55-4D5B-86A9-E1C96314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F2C-521F-4B58-8F6E-2F4A0130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B70-7A46-4CF7-A925-69897ED9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4720" y="306360"/>
            <a:ext cx="90727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10F-425A-4B7A-BEFF-50F9CD3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0F4-66AB-4B7E-913E-9F9D817A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51F-6A5C-4601-A2AA-C2AD95A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04E-111E-4001-8BD2-C54E2CF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07280" y="7086600"/>
            <a:ext cx="314280" cy="23184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2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4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6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35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53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66ff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8E78BA8-95A5-42D9-A2FD-4184712DF1FD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1FD7C73-A275-4B83-89A3-FCCD8E6CF4A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703760"/>
            <a:ext cx="10077120" cy="2855520"/>
            <a:chOff x="3240" y="4703760"/>
            <a:chExt cx="10077120" cy="2855520"/>
          </a:xfrm>
        </p:grpSpPr>
        <p:sp>
          <p:nvSpPr>
            <p:cNvPr id="107" name=""/>
            <p:cNvSpPr/>
            <p:nvPr/>
          </p:nvSpPr>
          <p:spPr>
            <a:xfrm>
              <a:off x="3240" y="4703760"/>
              <a:ext cx="10077120" cy="28555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74360" y="6500880"/>
              <a:ext cx="1385280" cy="911160"/>
              <a:chOff x="6174360" y="6500880"/>
              <a:chExt cx="1385280" cy="911160"/>
            </a:xfrm>
          </p:grpSpPr>
          <p:sp>
            <p:nvSpPr>
              <p:cNvPr id="109" name=""/>
              <p:cNvSpPr/>
              <p:nvPr/>
            </p:nvSpPr>
            <p:spPr>
              <a:xfrm>
                <a:off x="6452280" y="6666840"/>
                <a:ext cx="930600" cy="57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2480" y="6719400"/>
                <a:ext cx="790560" cy="48096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20400" y="6775200"/>
                <a:ext cx="601560" cy="3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90240" y="6817320"/>
                <a:ext cx="45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49640" y="6862680"/>
                <a:ext cx="335880" cy="18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58240" y="6500880"/>
                <a:ext cx="669960" cy="281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68120" y="7296840"/>
                <a:ext cx="776520" cy="1152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74360" y="6834600"/>
                <a:ext cx="155880" cy="37764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47440" y="6553080"/>
                <a:ext cx="1312200" cy="8060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66440" y="6511320"/>
                <a:ext cx="167760" cy="5220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44320" y="6908400"/>
                <a:ext cx="146520" cy="9216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107880" y="6354000"/>
              <a:ext cx="2845080" cy="1194480"/>
              <a:chOff x="3107880" y="6354000"/>
              <a:chExt cx="2845080" cy="1194480"/>
            </a:xfrm>
          </p:grpSpPr>
          <p:sp>
            <p:nvSpPr>
              <p:cNvPr id="121" name=""/>
              <p:cNvSpPr/>
              <p:nvPr/>
            </p:nvSpPr>
            <p:spPr>
              <a:xfrm>
                <a:off x="3968640" y="6883920"/>
                <a:ext cx="1116720" cy="65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48920" y="6925680"/>
                <a:ext cx="950400" cy="58068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96080" y="6962400"/>
                <a:ext cx="876600" cy="523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3600" y="6994080"/>
                <a:ext cx="776880" cy="4507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173120" y="7008120"/>
                <a:ext cx="722520" cy="419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64200" y="7044840"/>
                <a:ext cx="535680" cy="33552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32240" y="7097040"/>
                <a:ext cx="397080" cy="2358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48160" y="7169040"/>
                <a:ext cx="156960" cy="10440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23400" y="6687720"/>
                <a:ext cx="785520" cy="325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8320" y="6740280"/>
                <a:ext cx="1560600" cy="80820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43200" y="6698160"/>
                <a:ext cx="712080" cy="85032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26840" y="7076160"/>
                <a:ext cx="188640" cy="44064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18360" y="6448320"/>
                <a:ext cx="1460880" cy="26208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67000" y="6742080"/>
                <a:ext cx="299160" cy="8064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63840" y="6563520"/>
                <a:ext cx="630000" cy="98460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056120" y="6354000"/>
                <a:ext cx="1886040" cy="7430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81600" y="7139160"/>
                <a:ext cx="171360" cy="4093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07880" y="6427080"/>
                <a:ext cx="841680" cy="11214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24120" y="5879880"/>
              <a:ext cx="2364120" cy="1436040"/>
              <a:chOff x="7224120" y="5879880"/>
              <a:chExt cx="2364120" cy="1436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350120" y="5952960"/>
                <a:ext cx="2101680" cy="12787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24120" y="5889960"/>
                <a:ext cx="951840" cy="128952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85840" y="5879880"/>
                <a:ext cx="1065600" cy="44064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180360" y="7011720"/>
                <a:ext cx="126000" cy="94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84000" y="7127280"/>
                <a:ext cx="1233720" cy="18864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338040" y="6393960"/>
                <a:ext cx="250200" cy="5965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57080" y="6341400"/>
                <a:ext cx="145080" cy="1573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78880" y="6215400"/>
                <a:ext cx="1254600" cy="7542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610760" y="6141960"/>
                <a:ext cx="1590480" cy="9327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86960" y="6110640"/>
                <a:ext cx="638640" cy="1152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0560" y="6226200"/>
                <a:ext cx="115200" cy="83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55640" y="6313320"/>
                <a:ext cx="906120" cy="55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1800" y="6351840"/>
                <a:ext cx="780120" cy="474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67600" y="6386760"/>
                <a:ext cx="675360" cy="40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44640" y="6436080"/>
                <a:ext cx="521280" cy="30924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07640" y="6471000"/>
                <a:ext cx="388440" cy="243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91520" y="6523200"/>
                <a:ext cx="220320" cy="14184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240120" y="5291640"/>
              <a:ext cx="743400" cy="451080"/>
              <a:chOff x="9240120" y="5291640"/>
              <a:chExt cx="743400" cy="451080"/>
            </a:xfrm>
          </p:grpSpPr>
          <p:sp>
            <p:nvSpPr>
              <p:cNvPr id="158" name=""/>
              <p:cNvSpPr/>
              <p:nvPr/>
            </p:nvSpPr>
            <p:spPr>
              <a:xfrm>
                <a:off x="9240120" y="5574600"/>
                <a:ext cx="669960" cy="16812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301320" y="5291640"/>
                <a:ext cx="451080" cy="94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78760" y="5364720"/>
                <a:ext cx="104760" cy="272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06080" y="5679720"/>
                <a:ext cx="335880" cy="3132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81880" y="5322960"/>
                <a:ext cx="281520" cy="325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05880" y="5322960"/>
                <a:ext cx="325080" cy="3672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53880" y="5351040"/>
                <a:ext cx="522720" cy="325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416880" y="5398200"/>
                <a:ext cx="396720" cy="230400"/>
                <a:chOff x="9416880" y="5398200"/>
                <a:chExt cx="396720" cy="230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416880" y="5398200"/>
                  <a:ext cx="396720" cy="23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455040" y="5422680"/>
                  <a:ext cx="317880" cy="1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504000" y="5439960"/>
                  <a:ext cx="218520" cy="14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9551160" y="5467680"/>
                  <a:ext cx="12744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63D979D4-6BE2-462E-9825-4C4089F67CD5}" type="datetime">
              <a:rPr b="0" lang="en-US" sz="15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FBB9B86E-BA5B-49E7-88DF-DF71A84B05B3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08000" algn="ctr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1280" algn="ctr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16000" algn="ctr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160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1864800"/>
            <a:ext cx="8569440" cy="19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Bases de TCP/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12720" y="4282560"/>
            <a:ext cx="7056720" cy="193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Direccionamiento y ruteo de TCP/I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MAC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(Control de Acceso al Medio) son direcciones únicas dadas a los clientes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rimera parte de la dirección MAC es asignada al fabricante del hardwa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resto de la dirección es determinada por cada fabrica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positivos que no son administrables (ejemplo, HUBs y algunos switches) no tienen dirección MA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son usadas para direccionar en la capa de enlace de datos (capa 2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MAC no son usadas para agrup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dentro de una 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nalogía: Las direcciones MAC son como el numero de CURP de cada perso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direcciones IP son usadas para el direccionamiento lógico en la capa de red (capa 3) del modelo de red OS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l como las direcciones MAC donde no hay similitud entre 2 direcciones, con la diferencia que las direcciones IP permiten agrupar computado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recciones 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Únicas, dirección de 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referenciadas por humanos vía notación decimal, un numero por cada 8 bits (1 octeto o byte), ejemplo., 159.148.147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ste de tres clases primarias A, B, and C (clase D es para multicast) en la forma [netid:hosti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ogía: Direcciones IP son como la dirección postal de cada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direcciones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15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os primeros 3 bits de una dirección IP hacen la cl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52360" y="2916360"/>
          <a:ext cx="7848360" cy="3703680"/>
        </p:xfrm>
        <a:graphic>
          <a:graphicData uri="http://schemas.openxmlformats.org/drawingml/2006/table">
            <a:tbl>
              <a:tblPr/>
              <a:tblGrid>
                <a:gridCol w="2344680"/>
                <a:gridCol w="1220760"/>
                <a:gridCol w="1314360"/>
                <a:gridCol w="1501920"/>
                <a:gridCol w="1466640"/>
              </a:tblGrid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.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X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X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Broad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ón multi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lases de 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03280" y="1908000"/>
          <a:ext cx="9072360" cy="4264200"/>
        </p:xfrm>
        <a:graphic>
          <a:graphicData uri="http://schemas.openxmlformats.org/drawingml/2006/table">
            <a:tbl>
              <a:tblPr/>
              <a:tblGrid>
                <a:gridCol w="1944720"/>
                <a:gridCol w="3313080"/>
                <a:gridCol w="38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de direcc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- 127.0.0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127.XXX.XXX.XX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xxx.0.0 - 191.xxx.0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xxx.yyy.0 - 223.xxx.yyy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3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ltic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xxx.yyy.zzz - 239.xxx.yyy.z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.0.0.0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.255.255.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824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Redes IP dadas, pueden dividirse en redes mas pequeñas, llamadas sub-red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El tamaño de una subred es determinada por la mascara de red (mascara de sub-red, mascara de red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300" spc="-1" strike="noStrike">
                <a:solidFill>
                  <a:srgbClr val="000000"/>
                </a:solidFill>
                <a:latin typeface="Arial"/>
              </a:rPr>
              <a:t>Mascaras de sub-redes tienen el hostid con todos los bits=0, y el netid con todos los bits=1, por ejemplo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10000000 (255.255.255.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11111111 00000000 (255.255.25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160" indent="-30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111111 11111111 00000000 00000000 (255.255.0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La operación lógica AND es usada para calcular la dirección de red desde direcciones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y mascara de r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00000000 (s:255.255.255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00000000 (n:128.192.1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alcula la dirección de red del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, si la mascara es de 26 bits (use la dirección de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del ejemplo pasado)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10100101 (h:128.192.10.1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1111111 11111111 11111111 11000000 (s:255.255.255.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00000 11000000 00001010 ________ (n:128.192.10.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pacio de direccionamiento y sub-red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direcciones para hosts están disponibles cuando dividimos una red de 24 bits en sub-re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719280" y="3132000"/>
          <a:ext cx="8785080" cy="3700440"/>
        </p:xfrm>
        <a:graphic>
          <a:graphicData uri="http://schemas.openxmlformats.org/drawingml/2006/table">
            <a:tbl>
              <a:tblPr/>
              <a:tblGrid>
                <a:gridCol w="1222200"/>
                <a:gridCol w="2448000"/>
                <a:gridCol w="1297080"/>
                <a:gridCol w="1298520"/>
                <a:gridCol w="1297080"/>
                <a:gridCol w="122220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s en 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-red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/ subre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s disponib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from 2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19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4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5.255.255.2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Punto a Pun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s proporcionan un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 efectivo uso del espacio de direcciona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n ser usadas en comunicaciones punto a punt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 A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B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rección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7.1/3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=10.1.6.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irecciones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de broadcast es usada para “hablar” con todos l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a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dirección broadcast es una dirección con la porción del h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liente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nfigurada solo con 1’s,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255 para la red 128.192.10.0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8.192.10.191 para la red  128.192.10.128/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roadcasts son necesarios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comunicación inicial con o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jemplo, resolu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DHCP y asignación de dir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56000" y="3995640"/>
            <a:ext cx="3887280" cy="1800000"/>
            <a:chOff x="3456000" y="3995640"/>
            <a:chExt cx="3887280" cy="1800000"/>
          </a:xfrm>
        </p:grpSpPr>
        <p:sp>
          <p:nvSpPr>
            <p:cNvPr id="215" name=""/>
            <p:cNvSpPr/>
            <p:nvPr/>
          </p:nvSpPr>
          <p:spPr>
            <a:xfrm>
              <a:off x="3666240" y="4795560"/>
              <a:ext cx="630000" cy="299160"/>
            </a:xfrm>
            <a:prstGeom prst="cube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6000" y="3995640"/>
              <a:ext cx="418680" cy="40068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10880" y="3995640"/>
              <a:ext cx="63216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6840" y="4995720"/>
              <a:ext cx="629280" cy="299520"/>
            </a:xfrm>
            <a:prstGeom prst="rect">
              <a:avLst/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00280" y="4695840"/>
              <a:ext cx="1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5"/>
              <a:endCxn id="217" idx="1"/>
            </p:cNvCxnSpPr>
            <p:nvPr/>
          </p:nvCxnSpPr>
          <p:spPr>
            <a:xfrm flipV="1">
              <a:off x="4296240" y="4145040"/>
              <a:ext cx="31500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>
              <a:stCxn id="215" idx="5"/>
              <a:endCxn id="218" idx="1"/>
            </p:cNvCxnSpPr>
            <p:nvPr/>
          </p:nvCxnSpPr>
          <p:spPr>
            <a:xfrm>
              <a:off x="4296600" y="4907160"/>
              <a:ext cx="210960" cy="239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15" idx="0"/>
              <a:endCxn id="216" idx="3"/>
            </p:cNvCxnSpPr>
            <p:nvPr/>
          </p:nvCxnSpPr>
          <p:spPr>
            <a:xfrm flipH="1" flipV="1">
              <a:off x="3665880" y="4395960"/>
              <a:ext cx="354960" cy="39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3771000" y="5394600"/>
              <a:ext cx="418680" cy="401040"/>
            </a:xfrm>
            <a:prstGeom prst="can">
              <a:avLst>
                <a:gd name="adj" fmla="val 25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5" idx="3"/>
              <a:endCxn id="223" idx="1"/>
            </p:cNvCxnSpPr>
            <p:nvPr/>
          </p:nvCxnSpPr>
          <p:spPr>
            <a:xfrm>
              <a:off x="3941640" y="5094720"/>
              <a:ext cx="39960" cy="30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5977080" y="4396320"/>
              <a:ext cx="1154880" cy="1099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0520" y="439632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0520" y="4995720"/>
              <a:ext cx="421560" cy="40068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6720" y="51962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21720" y="469584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06720" y="4195800"/>
              <a:ext cx="421560" cy="401040"/>
            </a:xfrm>
            <a:prstGeom prst="triangle">
              <a:avLst>
                <a:gd name="adj" fmla="val 50000"/>
              </a:avLst>
            </a:prstGeom>
            <a:solidFill>
              <a:srgbClr val="a4bc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17" idx="3"/>
              <a:endCxn id="226" idx="1"/>
            </p:cNvCxnSpPr>
            <p:nvPr/>
          </p:nvCxnSpPr>
          <p:spPr>
            <a:xfrm>
              <a:off x="5243040" y="4145400"/>
              <a:ext cx="734400" cy="45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32" name=""/>
          <p:cNvSpPr/>
          <p:nvPr/>
        </p:nvSpPr>
        <p:spPr>
          <a:xfrm>
            <a:off x="504720" y="1763640"/>
            <a:ext cx="907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Una red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e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usualmente </a:t>
            </a:r>
            <a:r>
              <a:rPr b="0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considerad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como un medio fisico que interconecta dispositivos que pueden transferir datos entre ell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Dominio Broadcas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 dominio de broadcast es parte de la red que puede “oír” trafico de broadcast generado en los hosts de la r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Redes remotas pueden incorporarse dentro de un bridge sobre un túnel para crear un dominio de broadc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tocolo ARP (Protocolo de resolución de direcciones) es usado para asociar direcciones MAC con direcciones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proceso de ARP funciona de la siguiente mane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solicitante de ARP manda u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quete (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broadcast con la información del la ip destino, la ip origen y la dirección MAC, preguntando por la dirección MAC des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liente con la dirección ip destino manda un frame directo de regreso al solicitante llenando en el su dirección MAC y guardando la dirección MAC de el  en la tabla ARP o c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a minimizar los broadcasts debidos a requisiciones tipo ARP, las direcciones ip de los clientes y los gateways guardan tablas de direcciones MAC y direcciones IP llamadas tablas de arp o ca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uertos TCP/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a vez que los datos han arribado a su destino, los puertos de tcp/ip definen cual servicio o propósito tiene dicho trafico. Los puertos s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ositivos, números enteros de 16 bits (1…65535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muy conocidos son del 1…1023,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;21 - F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2 - S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3 - Tel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- SM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0 - HT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10 - POP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43 – HT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uertos definidos por el usuario son del 1024…655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definida como el par de números (ip_origen:puerto) y  (ip_destino:puerto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Conexiones diferentes pueden usar el mismo puerto de destino en el server siempre y cuando los puertos origen o la ip origen sean diferen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ablecimiento de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66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conexión TCP es establecida usando un “proceso de 3 vías“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 requisición de</a:t>
            </a: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 SY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erver responde con SYN,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Cliente manda un AC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8000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64360" y="435600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4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80360" y="4427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8000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0000" y="5580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8000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andando Dato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47516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CP divide e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j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datos en seg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envía manda datos en en seg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recibe da acuse de reci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que manda, manda el siguiente segm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se recibe acuse de recibo, el segmento de datos se vuelve a ma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caso que la conexión sea abortada, una bandera RTS es usada para notificarle al que 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69080" y="1908000"/>
            <a:ext cx="0" cy="37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53440" y="190800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27640" y="197964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9440" y="1979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69080" y="1908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69080" y="313200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9080" y="2556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69080" y="378000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Arial"/>
              </a:rPr>
              <a:t>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69080" y="435600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69080" y="500364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errando conexiones TC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conexión TCP es cerrada usando un proceso modificado de 3 ví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inicia, manda una petición de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que recibe responde con un acuse de recibo, con un FIN y una solicitud de acuse de recibo 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te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anda el acuse de reci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80000" y="4427640"/>
            <a:ext cx="0" cy="24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64360" y="4354560"/>
            <a:ext cx="0" cy="252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572000"/>
            <a:ext cx="16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9080" y="4500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80000" y="4427640"/>
            <a:ext cx="1584360" cy="647640"/>
          </a:xfrm>
          <a:prstGeom prst="rightArrow">
            <a:avLst>
              <a:gd name="adj1" fmla="val 63722"/>
              <a:gd name="adj2" fmla="val 34317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80000" y="6227640"/>
            <a:ext cx="1584360" cy="648000"/>
          </a:xfrm>
          <a:prstGeom prst="rightArrow">
            <a:avLst>
              <a:gd name="adj1" fmla="val 63722"/>
              <a:gd name="adj2" fmla="val 34298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5651640"/>
            <a:ext cx="1584360" cy="576000"/>
          </a:xfrm>
          <a:prstGeom prst="leftArrow">
            <a:avLst>
              <a:gd name="adj1" fmla="val 70250"/>
              <a:gd name="adj2" fmla="val 43819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,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0000" y="5146560"/>
            <a:ext cx="1584360" cy="576360"/>
          </a:xfrm>
          <a:prstGeom prst="leftArrow">
            <a:avLst>
              <a:gd name="adj1" fmla="val 70250"/>
              <a:gd name="adj2" fmla="val 43792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Puede una red interna de un país ser considerada una intrane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Si / No, Ejemplos 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extienden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Que dispositivos deben ser usados para limitar un dominio de Broadcast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LANs y WA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local (LAN) usualmente esta limitada a un area limitada, ejemplo, dentro de un edificio o territorio local como un campus de universidad y puede consistir de una o mas redes físicas interconectad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"/>
              </a:rPr>
              <a:t>Una red de área amplia es una serie de LANS interconectadas y que se distribuye sobre un gran territorio o distancia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Intranets e Internet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as redes de acuerdo al control administrativo que tienen están clasificadas com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rane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Una Intranet son LANs o una WAN bajo un solo control administrativo y usualmente provee servicios para uso interno dentro de una organizació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Internet es una serie de of WANs interconectadas por diferentes tipos de medio y no tiene un solo control administra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Protocolos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dispositivos usan protocolos para comunicarse entr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(Internetwork Protocol) es el principal y mas usado de los protocolos de red para que ellos se comuniq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CP/IP ha sido diseñado para mante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a dispon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plata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ependiente de cualquier tipo de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tocolos de red son netBEUI, IPX/SPX, y Apple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ncapsulación e IP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10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es el concepto principal del diseño de 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apsulación significa poner una cosa dentro de otra 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0" y="3924360"/>
            <a:ext cx="160020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0800000">
            <a:off x="609120" y="39621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etter"/>
          <p:cNvSpPr/>
          <p:nvPr/>
        </p:nvSpPr>
        <p:spPr>
          <a:xfrm>
            <a:off x="1676520" y="4038480"/>
            <a:ext cx="1623960" cy="8510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05320"/>
            <a:ext cx="1584360" cy="503280"/>
          </a:xfrm>
          <a:custGeom>
            <a:avLst/>
            <a:gdLst>
              <a:gd name="textAreaLeft" fmla="*/ 267840 w 1584360"/>
              <a:gd name="textAreaRight" fmla="*/ 1176840 w 158436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04" hR="21600" stAng="10800000" swAng="5400000"/>
                <a:lnTo>
                  <a:pt x="12392" y="0"/>
                </a:lnTo>
                <a:arcTo wR="7304" hR="21600" stAng="-5400000" swAng="2787353"/>
                <a:lnTo>
                  <a:pt x="21250" y="14991"/>
                </a:lnTo>
                <a:lnTo>
                  <a:pt x="17152" y="21600"/>
                </a:lnTo>
                <a:lnTo>
                  <a:pt x="12354" y="14991"/>
                </a:lnTo>
                <a:lnTo>
                  <a:pt x="14258" y="14991"/>
                </a:lnTo>
                <a:arcTo wR="7304" hR="21600" stAng="-2612647" swAng="-2357668"/>
                <a:lnTo>
                  <a:pt x="9848" y="1353"/>
                </a:lnTo>
                <a:arcTo wR="7304" hR="21600" stAng="-5829685" swAng="-4970315"/>
                <a:close/>
              </a:path>
              <a:path fill="darkenLess" w="21600" h="21600">
                <a:moveTo>
                  <a:pt x="0" y="21600"/>
                </a:moveTo>
                <a:arcTo wR="7304" hR="21600" stAng="10800000" swAng="5400000"/>
                <a:lnTo>
                  <a:pt x="7304" y="0"/>
                </a:lnTo>
                <a:arcTo wR="7304" hR="21600" stAng="-5400000" swAng="429685"/>
                <a:lnTo>
                  <a:pt x="9848" y="1353"/>
                </a:lnTo>
                <a:arcTo wR="7304" hR="21600" stAng="-5829685" swAng="-497031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2690600">
            <a:off x="8640360" y="2842560"/>
            <a:ext cx="792360" cy="1150920"/>
          </a:xfrm>
          <a:prstGeom prst="foldedCorner">
            <a:avLst>
              <a:gd name="adj" fmla="val 272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6248520"/>
            <a:ext cx="4105440" cy="718920"/>
          </a:xfrm>
          <a:custGeom>
            <a:avLst/>
            <a:gdLst>
              <a:gd name="textAreaLeft" fmla="*/ 823680 w 4105440"/>
              <a:gd name="textAreaRight" fmla="*/ 2871000 w 410544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-2917241"/>
                <a:lnTo>
                  <a:pt x="21104" y="7200"/>
                </a:lnTo>
                <a:lnTo>
                  <a:pt x="18389" y="0"/>
                </a:lnTo>
                <a:lnTo>
                  <a:pt x="14681" y="7200"/>
                </a:lnTo>
                <a:lnTo>
                  <a:pt x="16841" y="7200"/>
                </a:lnTo>
                <a:arcTo wR="8669" hR="21600" stAng="2482759" swAng="2748779"/>
                <a:lnTo>
                  <a:pt x="9720" y="21440"/>
                </a:lnTo>
                <a:arcTo wR="8669" hR="21600" stAng="5568461" swAng="5231539"/>
                <a:close/>
              </a:path>
              <a:path fill="darkenLess" w="21600" h="21600">
                <a:moveTo>
                  <a:pt x="0" y="0"/>
                </a:moveTo>
                <a:arcTo wR="8669" hR="21600" stAng="10800000" swAng="-5400000"/>
                <a:lnTo>
                  <a:pt x="10772" y="21600"/>
                </a:lnTo>
                <a:arcTo wR="8669" hR="21600" stAng="5400000" swAng="168461"/>
                <a:lnTo>
                  <a:pt x="9720" y="21440"/>
                </a:lnTo>
                <a:arcTo wR="8669" hR="21600" stAng="5568461" swAng="5231539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4952880"/>
            <a:ext cx="1224000" cy="129708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59200" y="44751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96080" y="4572000"/>
            <a:ext cx="1225800" cy="360360"/>
          </a:xfrm>
          <a:custGeom>
            <a:avLst/>
            <a:gdLst>
              <a:gd name="textAreaLeft" fmla="*/ 214560 w 1225800"/>
              <a:gd name="textAreaRight" fmla="*/ 888840 w 12258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etter"/>
          <p:cNvSpPr/>
          <p:nvPr/>
        </p:nvSpPr>
        <p:spPr>
          <a:xfrm>
            <a:off x="8229600" y="3505320"/>
            <a:ext cx="1623960" cy="850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Estándar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pen System Interconnection (OSI) fue originalmente usado cuando se crearon los protocolos de red (tales como TCP/IP e IPX, etc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El Estándar OSI usa un modelo de 7 capas de red para describir el direccionamiento de red, análisis de datos, y capacidades de red del diferente hardwar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Arial"/>
              </a:rPr>
              <a:t>Los beneficios de usar un modelo de capas s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da capa del modelo OSI es responsable de ciertas tareas especi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3480" indent="-290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erentes tecnologías pueden convivir de una manera estandar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907236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Modelo OSI de Re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429000" y="2133720"/>
          <a:ext cx="3581280" cy="39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Aplic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esentac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Sesió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Transport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Re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nlace de datos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ísic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2514600" y="2133720"/>
            <a:ext cx="576360" cy="3128760"/>
          </a:xfrm>
          <a:prstGeom prst="downArrow">
            <a:avLst>
              <a:gd name="adj1" fmla="val 56472"/>
              <a:gd name="adj2" fmla="val 52953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800000">
            <a:off x="7314840" y="2133720"/>
            <a:ext cx="576360" cy="3124080"/>
          </a:xfrm>
          <a:prstGeom prst="downArrow">
            <a:avLst>
              <a:gd name="adj1" fmla="val 56472"/>
              <a:gd name="adj2" fmla="val 52874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752480"/>
            <a:ext cx="21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64360" y="176364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pción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486400"/>
            <a:ext cx="57600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5486400"/>
            <a:ext cx="576360" cy="720720"/>
          </a:xfrm>
          <a:prstGeom prst="rightArrow">
            <a:avLst>
              <a:gd name="adj1" fmla="val 49778"/>
              <a:gd name="adj2" fmla="val 58125"/>
            </a:avLst>
          </a:prstGeom>
          <a:solidFill>
            <a:srgbClr val="a4bc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272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 anchorCtr="1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4900" spc="-1" strike="noStrike">
                <a:solidFill>
                  <a:srgbClr val="000000"/>
                </a:solidFill>
                <a:latin typeface="Arial"/>
              </a:rPr>
              <a:t>Capas del Modelo OS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90400" indent="-590400">
              <a:spcBef>
                <a:spcPts val="675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Un buen entendimiento de las primeras 3 capas de red es requerido para entender los conceptos básicos de red, como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s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 de puertos, firewall, y NA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1) La capa física son las conexiones físicas (cables, tarjetas de red y dispositivos que levantan la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2) La capa de enlace de datos transfiere paquetes dentro de raw bits para ser transmitidos sobre la capa fís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7720" indent="-5144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) La capa de red es responsable del direccionamiento 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Index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so Urbina Araux</cp:lastModifiedBy>
  <dcterms:modified xsi:type="dcterms:W3CDTF">2006-02-23T19:58:43Z</dcterms:modified>
  <cp:revision>83</cp:revision>
  <dc:subject/>
  <dc:title>TCP/IP Basics</dc:title>
</cp:coreProperties>
</file>